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wmf" ContentType="image/x-wmf"/>
  <Override PartName="/ppt/media/image4.png" ContentType="image/png"/>
  <Override PartName="/ppt/media/image9.wmf" ContentType="image/x-wmf"/>
  <Override PartName="/ppt/media/image13.wmf" ContentType="image/x-wmf"/>
  <Override PartName="/ppt/media/image8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7.jpeg" ContentType="image/jpeg"/>
  <Override PartName="/ppt/media/image15.gif" ContentType="image/gif"/>
  <Override PartName="/ppt/media/image5.wmf" ContentType="image/x-wmf"/>
  <Override PartName="/ppt/media/image24.wmf" ContentType="image/x-wmf"/>
  <Override PartName="/ppt/media/image23.wmf" ContentType="image/x-wmf"/>
  <Override PartName="/ppt/media/image22.jpeg" ContentType="image/jpeg"/>
  <Override PartName="/ppt/media/image21.wmf" ContentType="image/x-wmf"/>
  <Override PartName="/ppt/media/image19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4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E6D144-E49F-49AD-868E-9CEF597CE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503090-C4D5-4279-BB60-A8C262F67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4AADA5-6A6C-4A33-8A1B-165FE66AC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43489A-68D6-4B4D-B0B5-EECA0A90E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870FF-7781-4F06-95AD-E77A2CD25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05ED8-BD82-4F91-8816-006897DD9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85229-E9DE-4DC4-B06D-DA8E88D85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865DC-23B6-4870-9C37-3D8891037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9CB3F-59AF-4D62-A08C-43958C2D4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54FF1-C60D-4B77-82C3-7741F1F16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2C4AF-C8E8-4147-B098-7F26E3BA5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346819-DA95-47C5-A1F5-E04B636FD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83493-3E55-4590-9F08-20DEEFDD7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86A8E-597C-4767-8DD6-288DABC55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85698-58E9-4CEA-8D05-1C6B0335F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8AC43-7A9B-4ED1-9BB4-C29FF0350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DD4B2-77B6-49EE-9D02-EDF624C11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88B779-52B8-402B-9EB8-80AB8A0DF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B2A96B-453E-45AA-AA1A-F48E618B6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1D3F35-3AE5-4F85-A8A5-21DF4EDE3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3DDE8E-DBD2-4CFE-BB74-9F29757DE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72001F-95EA-4E4C-B3A7-023AA0282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395B3A-1419-4C4B-8EBF-5FC5FD8F2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E3908E-326F-4242-BCB6-D9893BD40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6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0600" y="6120"/>
            <a:ext cx="9195120" cy="6834240"/>
            <a:chOff x="-30600" y="6120"/>
            <a:chExt cx="9195120" cy="6834240"/>
          </a:xfrm>
        </p:grpSpPr>
        <p:grpSp>
          <p:nvGrpSpPr>
            <p:cNvPr id="1" name=""/>
            <p:cNvGrpSpPr/>
            <p:nvPr/>
          </p:nvGrpSpPr>
          <p:grpSpPr>
            <a:xfrm>
              <a:off x="90000" y="6120"/>
              <a:ext cx="8894880" cy="368640"/>
              <a:chOff x="90000" y="6120"/>
              <a:chExt cx="8894880" cy="368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89640" y="6480"/>
                <a:ext cx="43812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rot="10800000">
                <a:off x="302760" y="5760"/>
                <a:ext cx="4366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b500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18400" y="6480"/>
                <a:ext cx="4366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rot="10800000">
                <a:off x="729720" y="5760"/>
                <a:ext cx="4366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751fe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941400" y="6480"/>
                <a:ext cx="4348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f297c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rot="10800000">
                <a:off x="1152360" y="5760"/>
                <a:ext cx="43344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1364400" y="6480"/>
                <a:ext cx="438120" cy="368280"/>
              </a:xfrm>
              <a:prstGeom prst="triangle">
                <a:avLst>
                  <a:gd name="adj" fmla="val 49995"/>
                </a:avLst>
              </a:prstGeom>
              <a:solidFill>
                <a:srgbClr val="6c009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rot="10800000">
                <a:off x="1569600" y="5760"/>
                <a:ext cx="4366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b500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1785240" y="6480"/>
                <a:ext cx="43812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rot="10800000">
                <a:off x="1994040" y="5760"/>
                <a:ext cx="43632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100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2204280" y="6480"/>
                <a:ext cx="4366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rot="10800000">
                <a:off x="2415960" y="5760"/>
                <a:ext cx="438120" cy="368280"/>
              </a:xfrm>
              <a:prstGeom prst="triangle">
                <a:avLst>
                  <a:gd name="adj" fmla="val 49995"/>
                </a:avLst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2628360" y="6480"/>
                <a:ext cx="438120" cy="368280"/>
              </a:xfrm>
              <a:prstGeom prst="triangle">
                <a:avLst>
                  <a:gd name="adj" fmla="val 49995"/>
                </a:avLst>
              </a:prstGeom>
              <a:solidFill>
                <a:srgbClr val="751fe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rot="10800000">
                <a:off x="2836440" y="5760"/>
                <a:ext cx="4366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3048120" y="6480"/>
                <a:ext cx="436320" cy="368280"/>
              </a:xfrm>
              <a:prstGeom prst="triangle">
                <a:avLst>
                  <a:gd name="adj" fmla="val 49995"/>
                </a:avLst>
              </a:prstGeom>
              <a:solidFill>
                <a:srgbClr val="f297c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10800000">
                <a:off x="3260880" y="5760"/>
                <a:ext cx="4348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6c009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>
                <a:off x="3471840" y="6480"/>
                <a:ext cx="43344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10800000">
                <a:off x="3677760" y="5760"/>
                <a:ext cx="4366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b500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3890160" y="6480"/>
                <a:ext cx="4366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100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10800000">
                <a:off x="4101840" y="5760"/>
                <a:ext cx="43812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flipH="1">
                <a:off x="4314960" y="6480"/>
                <a:ext cx="436320" cy="368280"/>
              </a:xfrm>
              <a:prstGeom prst="triangle">
                <a:avLst>
                  <a:gd name="adj" fmla="val 49995"/>
                </a:avLst>
              </a:prstGeom>
              <a:solidFill>
                <a:srgbClr val="751fe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10800000">
                <a:off x="4525920" y="5760"/>
                <a:ext cx="4348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flipH="1">
                <a:off x="4734000" y="6480"/>
                <a:ext cx="436320" cy="368280"/>
              </a:xfrm>
              <a:prstGeom prst="triangle">
                <a:avLst>
                  <a:gd name="adj" fmla="val 49995"/>
                </a:avLst>
              </a:prstGeom>
              <a:solidFill>
                <a:srgbClr val="f297c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10800000">
                <a:off x="4944600" y="5760"/>
                <a:ext cx="438120" cy="368280"/>
              </a:xfrm>
              <a:prstGeom prst="triangle">
                <a:avLst>
                  <a:gd name="adj" fmla="val 49995"/>
                </a:avLst>
              </a:prstGeom>
              <a:solidFill>
                <a:srgbClr val="6c009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flipH="1">
                <a:off x="5157000" y="6480"/>
                <a:ext cx="4366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10800000">
                <a:off x="5366880" y="5760"/>
                <a:ext cx="435240" cy="368280"/>
              </a:xfrm>
              <a:prstGeom prst="triangle">
                <a:avLst>
                  <a:gd name="adj" fmla="val 49995"/>
                </a:avLst>
              </a:prstGeom>
              <a:solidFill>
                <a:srgbClr val="b500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flipH="1">
                <a:off x="5580000" y="6480"/>
                <a:ext cx="4348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100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10800000">
                <a:off x="5787720" y="5760"/>
                <a:ext cx="4366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flipH="1">
                <a:off x="5998320" y="6480"/>
                <a:ext cx="4366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10800000">
                <a:off x="6208200" y="5760"/>
                <a:ext cx="4366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751fe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flipH="1">
                <a:off x="6419160" y="6480"/>
                <a:ext cx="4366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10800000">
                <a:off x="6630480" y="5760"/>
                <a:ext cx="4366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f297c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flipH="1">
                <a:off x="6845400" y="6480"/>
                <a:ext cx="436320" cy="368280"/>
              </a:xfrm>
              <a:prstGeom prst="triangle">
                <a:avLst>
                  <a:gd name="adj" fmla="val 49995"/>
                </a:avLst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10800000">
                <a:off x="7054920" y="5760"/>
                <a:ext cx="4348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100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flipH="1">
                <a:off x="7263720" y="6480"/>
                <a:ext cx="4366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10800000">
                <a:off x="7475040" y="5760"/>
                <a:ext cx="435240" cy="368280"/>
              </a:xfrm>
              <a:prstGeom prst="triangle">
                <a:avLst>
                  <a:gd name="adj" fmla="val 49995"/>
                </a:avLst>
              </a:prstGeom>
              <a:solidFill>
                <a:srgbClr val="751fe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flipH="1">
                <a:off x="7686720" y="6480"/>
                <a:ext cx="4348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f297c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10800000">
                <a:off x="7899480" y="5760"/>
                <a:ext cx="4348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flipH="1">
                <a:off x="8124120" y="6480"/>
                <a:ext cx="4366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10800000">
                <a:off x="8337240" y="5760"/>
                <a:ext cx="438120" cy="368280"/>
              </a:xfrm>
              <a:prstGeom prst="triangle">
                <a:avLst>
                  <a:gd name="adj" fmla="val 49995"/>
                </a:avLst>
              </a:prstGeom>
              <a:solidFill>
                <a:srgbClr val="b500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flipH="1">
                <a:off x="8547840" y="6480"/>
                <a:ext cx="4366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100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3" name=""/>
            <p:cNvGrpSpPr/>
            <p:nvPr/>
          </p:nvGrpSpPr>
          <p:grpSpPr>
            <a:xfrm>
              <a:off x="8726040" y="6480"/>
              <a:ext cx="438480" cy="6832440"/>
              <a:chOff x="8726040" y="6480"/>
              <a:chExt cx="438480" cy="6832440"/>
            </a:xfrm>
          </p:grpSpPr>
          <p:sp>
            <p:nvSpPr>
              <p:cNvPr id="44" name=""/>
              <p:cNvSpPr/>
              <p:nvPr/>
            </p:nvSpPr>
            <p:spPr>
              <a:xfrm>
                <a:off x="8766000" y="6480"/>
                <a:ext cx="358920" cy="43812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flipH="1" rot="5400000">
                <a:off x="8765280" y="34560"/>
                <a:ext cx="358920" cy="438120"/>
              </a:xfrm>
              <a:prstGeom prst="triangle">
                <a:avLst>
                  <a:gd name="adj" fmla="val 49995"/>
                </a:avLst>
              </a:prstGeom>
              <a:solidFill>
                <a:srgbClr val="6c009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6200000">
                <a:off x="8766000" y="250560"/>
                <a:ext cx="358920" cy="438120"/>
              </a:xfrm>
              <a:prstGeom prst="triangle">
                <a:avLst>
                  <a:gd name="adj" fmla="val 49995"/>
                </a:avLst>
              </a:prstGeom>
              <a:solidFill>
                <a:srgbClr val="b500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flipH="1" rot="5400000">
                <a:off x="8766360" y="465120"/>
                <a:ext cx="358560" cy="43488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16200000">
                <a:off x="8766000" y="688680"/>
                <a:ext cx="35892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100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flipH="1" rot="5400000">
                <a:off x="8765280" y="898200"/>
                <a:ext cx="35892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6200000">
                <a:off x="8766000" y="1112400"/>
                <a:ext cx="358920" cy="43488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flipH="1" rot="5400000">
                <a:off x="8765280" y="1323720"/>
                <a:ext cx="358920" cy="438120"/>
              </a:xfrm>
              <a:prstGeom prst="triangle">
                <a:avLst>
                  <a:gd name="adj" fmla="val 49995"/>
                </a:avLst>
              </a:prstGeom>
              <a:solidFill>
                <a:srgbClr val="751fe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16200000">
                <a:off x="8766000" y="1533240"/>
                <a:ext cx="358920" cy="438120"/>
              </a:xfrm>
              <a:prstGeom prst="triangle">
                <a:avLst>
                  <a:gd name="adj" fmla="val 49995"/>
                </a:avLst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flipH="1" rot="5400000">
                <a:off x="8765280" y="1742760"/>
                <a:ext cx="358920" cy="438120"/>
              </a:xfrm>
              <a:prstGeom prst="triangle">
                <a:avLst>
                  <a:gd name="adj" fmla="val 49995"/>
                </a:avLst>
              </a:prstGeom>
              <a:solidFill>
                <a:srgbClr val="f297c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16200000">
                <a:off x="8766000" y="1956960"/>
                <a:ext cx="358920" cy="438120"/>
              </a:xfrm>
              <a:prstGeom prst="triangle">
                <a:avLst>
                  <a:gd name="adj" fmla="val 49995"/>
                </a:avLst>
              </a:prstGeom>
              <a:solidFill>
                <a:srgbClr val="6c009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flipH="1" rot="5400000">
                <a:off x="8765280" y="2166840"/>
                <a:ext cx="35856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16200000">
                <a:off x="8766000" y="2377800"/>
                <a:ext cx="358920" cy="438120"/>
              </a:xfrm>
              <a:prstGeom prst="triangle">
                <a:avLst>
                  <a:gd name="adj" fmla="val 49995"/>
                </a:avLst>
              </a:prstGeom>
              <a:solidFill>
                <a:srgbClr val="b500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 rot="5400000">
                <a:off x="8766360" y="2590920"/>
                <a:ext cx="358560" cy="434880"/>
              </a:xfrm>
              <a:prstGeom prst="triangle">
                <a:avLst>
                  <a:gd name="adj" fmla="val 49995"/>
                </a:avLst>
              </a:prstGeom>
              <a:solidFill>
                <a:srgbClr val="0100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16200000">
                <a:off x="8766000" y="2801520"/>
                <a:ext cx="35892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flipH="1" rot="5400000">
                <a:off x="8765280" y="3012840"/>
                <a:ext cx="358560" cy="438120"/>
              </a:xfrm>
              <a:prstGeom prst="triangle">
                <a:avLst>
                  <a:gd name="adj" fmla="val 49995"/>
                </a:avLst>
              </a:prstGeom>
              <a:solidFill>
                <a:srgbClr val="751fe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16200000">
                <a:off x="8766000" y="3225240"/>
                <a:ext cx="358920" cy="43488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flipH="1" rot="5400000">
                <a:off x="8765280" y="3435120"/>
                <a:ext cx="358560" cy="438120"/>
              </a:xfrm>
              <a:prstGeom prst="triangle">
                <a:avLst>
                  <a:gd name="adj" fmla="val 49995"/>
                </a:avLst>
              </a:prstGeom>
              <a:solidFill>
                <a:srgbClr val="f297c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16200000">
                <a:off x="8766000" y="3646080"/>
                <a:ext cx="358920" cy="438120"/>
              </a:xfrm>
              <a:prstGeom prst="triangle">
                <a:avLst>
                  <a:gd name="adj" fmla="val 49995"/>
                </a:avLst>
              </a:prstGeom>
              <a:solidFill>
                <a:srgbClr val="6c009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5400000">
                <a:off x="8766360" y="3859200"/>
                <a:ext cx="358560" cy="43488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16200000">
                <a:off x="8766000" y="4070160"/>
                <a:ext cx="358560" cy="438120"/>
              </a:xfrm>
              <a:prstGeom prst="triangle">
                <a:avLst>
                  <a:gd name="adj" fmla="val 49995"/>
                </a:avLst>
              </a:prstGeom>
              <a:solidFill>
                <a:srgbClr val="b500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flipH="1" rot="5400000">
                <a:off x="8765280" y="4281120"/>
                <a:ext cx="35892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100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16200000">
                <a:off x="8766000" y="4490640"/>
                <a:ext cx="35892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8765280" y="4703400"/>
                <a:ext cx="35892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6200000">
                <a:off x="8766000" y="4914720"/>
                <a:ext cx="358560" cy="438120"/>
              </a:xfrm>
              <a:prstGeom prst="triangle">
                <a:avLst>
                  <a:gd name="adj" fmla="val 49995"/>
                </a:avLst>
              </a:prstGeom>
              <a:solidFill>
                <a:srgbClr val="751fe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765280" y="5124240"/>
                <a:ext cx="358560" cy="438120"/>
              </a:xfrm>
              <a:prstGeom prst="triangle">
                <a:avLst>
                  <a:gd name="adj" fmla="val 49995"/>
                </a:avLst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16200000">
                <a:off x="8766360" y="5338800"/>
                <a:ext cx="358560" cy="434880"/>
              </a:xfrm>
              <a:prstGeom prst="triangle">
                <a:avLst>
                  <a:gd name="adj" fmla="val 49995"/>
                </a:avLst>
              </a:prstGeom>
              <a:solidFill>
                <a:srgbClr val="f297c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8766000" y="6400800"/>
                <a:ext cx="358920" cy="43812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8765280" y="5549760"/>
                <a:ext cx="35856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6200000">
                <a:off x="8766000" y="5759280"/>
                <a:ext cx="35856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100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8766000" y="5976360"/>
                <a:ext cx="358920" cy="434880"/>
              </a:xfrm>
              <a:prstGeom prst="triangle">
                <a:avLst>
                  <a:gd name="adj" fmla="val 49995"/>
                </a:avLst>
              </a:prstGeom>
              <a:solidFill>
                <a:srgbClr val="b500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6200000">
                <a:off x="8766000" y="6186240"/>
                <a:ext cx="35892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8765280" y="6400440"/>
                <a:ext cx="35892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100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7" name=""/>
            <p:cNvGrpSpPr/>
            <p:nvPr/>
          </p:nvGrpSpPr>
          <p:grpSpPr>
            <a:xfrm>
              <a:off x="35640" y="6481800"/>
              <a:ext cx="8738640" cy="358560"/>
              <a:chOff x="35640" y="6481800"/>
              <a:chExt cx="8738640" cy="358560"/>
            </a:xfrm>
          </p:grpSpPr>
          <p:sp>
            <p:nvSpPr>
              <p:cNvPr id="78" name=""/>
              <p:cNvSpPr/>
              <p:nvPr/>
            </p:nvSpPr>
            <p:spPr>
              <a:xfrm rot="10800000">
                <a:off x="8545680" y="6483240"/>
                <a:ext cx="217440" cy="355680"/>
              </a:xfrm>
              <a:prstGeom prst="rtTriangle">
                <a:avLst/>
              </a:prstGeom>
              <a:solidFill>
                <a:srgbClr val="751fe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8332920" y="6483240"/>
                <a:ext cx="441360" cy="357120"/>
              </a:xfrm>
              <a:prstGeom prst="triangle">
                <a:avLst>
                  <a:gd name="adj" fmla="val 49995"/>
                </a:avLst>
              </a:prstGeom>
              <a:solidFill>
                <a:srgbClr val="b500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10800000">
                <a:off x="8121240" y="6481800"/>
                <a:ext cx="4381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100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>
                <a:off x="7913520" y="6483240"/>
                <a:ext cx="43848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0800000">
                <a:off x="7699320" y="6481800"/>
                <a:ext cx="44136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>
                <a:off x="7475400" y="6483240"/>
                <a:ext cx="4399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751fe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10800000">
                <a:off x="7254720" y="6481800"/>
                <a:ext cx="433440" cy="357120"/>
              </a:xfrm>
              <a:prstGeom prst="triangle">
                <a:avLst>
                  <a:gd name="adj" fmla="val 49995"/>
                </a:avLst>
              </a:prstGeom>
              <a:solidFill>
                <a:srgbClr val="b500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7043760" y="6483240"/>
                <a:ext cx="43956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10800000">
                <a:off x="6828480" y="6481800"/>
                <a:ext cx="439560" cy="357120"/>
              </a:xfrm>
              <a:prstGeom prst="triangle">
                <a:avLst>
                  <a:gd name="adj" fmla="val 49995"/>
                </a:avLst>
              </a:prstGeom>
              <a:solidFill>
                <a:srgbClr val="751fe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618240" y="6483240"/>
                <a:ext cx="436680" cy="357120"/>
              </a:xfrm>
              <a:prstGeom prst="triangle">
                <a:avLst>
                  <a:gd name="adj" fmla="val 49995"/>
                </a:avLst>
              </a:prstGeom>
              <a:solidFill>
                <a:srgbClr val="f297c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H="1" rot="10800000">
                <a:off x="6407640" y="6481800"/>
                <a:ext cx="4381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6195960" y="6483240"/>
                <a:ext cx="4381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6c009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H="1" rot="10800000">
                <a:off x="5985360" y="6481800"/>
                <a:ext cx="436680" cy="357120"/>
              </a:xfrm>
              <a:prstGeom prst="triangle">
                <a:avLst>
                  <a:gd name="adj" fmla="val 49995"/>
                </a:avLst>
              </a:prstGeom>
              <a:solidFill>
                <a:srgbClr val="b500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5773680" y="6483240"/>
                <a:ext cx="4381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0800000">
                <a:off x="5563080" y="6481800"/>
                <a:ext cx="43668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100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5354640" y="6483240"/>
                <a:ext cx="4381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flipH="1" rot="10800000">
                <a:off x="5139360" y="6481800"/>
                <a:ext cx="4381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930920" y="6483240"/>
                <a:ext cx="4363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751fe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flipH="1" rot="10800000">
                <a:off x="4717080" y="6481800"/>
                <a:ext cx="43956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4511520" y="6483240"/>
                <a:ext cx="433440" cy="357120"/>
              </a:xfrm>
              <a:prstGeom prst="triangle">
                <a:avLst>
                  <a:gd name="adj" fmla="val 49995"/>
                </a:avLst>
              </a:prstGeom>
              <a:solidFill>
                <a:srgbClr val="f297c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flipH="1" rot="10800000">
                <a:off x="4296240" y="6481800"/>
                <a:ext cx="4381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6c009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4086360" y="6483240"/>
                <a:ext cx="43956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flipH="1" rot="10800000">
                <a:off x="3875040" y="6481800"/>
                <a:ext cx="433440" cy="357120"/>
              </a:xfrm>
              <a:prstGeom prst="triangle">
                <a:avLst>
                  <a:gd name="adj" fmla="val 49995"/>
                </a:avLst>
              </a:prstGeom>
              <a:solidFill>
                <a:srgbClr val="b500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3664080" y="6483240"/>
                <a:ext cx="4381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100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flipH="1" rot="10800000">
                <a:off x="3449520" y="6481800"/>
                <a:ext cx="4399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3241800" y="6483240"/>
                <a:ext cx="433440" cy="357120"/>
              </a:xfrm>
              <a:prstGeom prst="triangle">
                <a:avLst>
                  <a:gd name="adj" fmla="val 49995"/>
                </a:avLst>
              </a:prstGeom>
              <a:solidFill>
                <a:srgbClr val="751fe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10800000">
                <a:off x="3027960" y="6481800"/>
                <a:ext cx="4381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2819520" y="6483240"/>
                <a:ext cx="4381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f297c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flipH="1" rot="10800000">
                <a:off x="2608200" y="6481800"/>
                <a:ext cx="434880" cy="357120"/>
              </a:xfrm>
              <a:prstGeom prst="triangle">
                <a:avLst>
                  <a:gd name="adj" fmla="val 49995"/>
                </a:avLst>
              </a:prstGeom>
              <a:solidFill>
                <a:srgbClr val="6c009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2395440" y="6483240"/>
                <a:ext cx="4381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10800000">
                <a:off x="2184480" y="6481800"/>
                <a:ext cx="4363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b500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1973160" y="6483240"/>
                <a:ext cx="43668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100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flipH="1" rot="10800000">
                <a:off x="1759320" y="6481800"/>
                <a:ext cx="43668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1552680" y="6483240"/>
                <a:ext cx="4381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H="1" rot="10800000">
                <a:off x="1338120" y="6481800"/>
                <a:ext cx="4399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751fe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128600" y="6483240"/>
                <a:ext cx="436680" cy="357120"/>
              </a:xfrm>
              <a:prstGeom prst="triangle">
                <a:avLst>
                  <a:gd name="adj" fmla="val 49995"/>
                </a:avLst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10800000">
                <a:off x="916560" y="6481800"/>
                <a:ext cx="4381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f297c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704880" y="6483240"/>
                <a:ext cx="43956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 rot="10800000">
                <a:off x="473760" y="6481800"/>
                <a:ext cx="439560" cy="357120"/>
              </a:xfrm>
              <a:prstGeom prst="triangle">
                <a:avLst>
                  <a:gd name="adj" fmla="val 49995"/>
                </a:avLst>
              </a:prstGeom>
              <a:solidFill>
                <a:srgbClr val="b500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263520" y="6483240"/>
                <a:ext cx="4381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100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800000">
                <a:off x="35280" y="6481800"/>
                <a:ext cx="43668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9" name=""/>
            <p:cNvGrpSpPr/>
            <p:nvPr/>
          </p:nvGrpSpPr>
          <p:grpSpPr>
            <a:xfrm>
              <a:off x="-30600" y="6480"/>
              <a:ext cx="438480" cy="6832440"/>
              <a:chOff x="-30600" y="6480"/>
              <a:chExt cx="438480" cy="6832440"/>
            </a:xfrm>
          </p:grpSpPr>
          <p:sp>
            <p:nvSpPr>
              <p:cNvPr id="120" name=""/>
              <p:cNvSpPr/>
              <p:nvPr/>
            </p:nvSpPr>
            <p:spPr>
              <a:xfrm>
                <a:off x="6480" y="6400800"/>
                <a:ext cx="365040" cy="43812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16200000">
                <a:off x="6120" y="636876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751fe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flipH="1" rot="5400000">
                <a:off x="5400" y="615924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b500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6200000">
                <a:off x="6480" y="5948280"/>
                <a:ext cx="365040" cy="434880"/>
              </a:xfrm>
              <a:prstGeom prst="triangle">
                <a:avLst>
                  <a:gd name="adj" fmla="val 49995"/>
                </a:avLst>
              </a:prstGeom>
              <a:solidFill>
                <a:srgbClr val="f297c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 rot="5400000">
                <a:off x="5040" y="5733720"/>
                <a:ext cx="36540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6200000">
                <a:off x="6120" y="552420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5400000">
                <a:off x="5400" y="531468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100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 anchorCtr="1" vert="eaVert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6200000">
                <a:off x="6120" y="510048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b500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 rot="5400000">
                <a:off x="5040" y="4889160"/>
                <a:ext cx="36540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6200000">
                <a:off x="6120" y="4679640"/>
                <a:ext cx="365400" cy="438120"/>
              </a:xfrm>
              <a:prstGeom prst="triangle">
                <a:avLst>
                  <a:gd name="adj" fmla="val 49995"/>
                </a:avLst>
              </a:prstGeom>
              <a:solidFill>
                <a:srgbClr val="6c009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5400000">
                <a:off x="5400" y="446544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f297c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16200000">
                <a:off x="6120" y="425592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flipH="1" rot="5400000">
                <a:off x="5400" y="404640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751fe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16200000">
                <a:off x="6480" y="3835440"/>
                <a:ext cx="365040" cy="434880"/>
              </a:xfrm>
              <a:prstGeom prst="triangle">
                <a:avLst>
                  <a:gd name="adj" fmla="val 49995"/>
                </a:avLst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5400000">
                <a:off x="5400" y="362088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100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6200000">
                <a:off x="6120" y="341136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b500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flipH="1" rot="5400000">
                <a:off x="6120" y="3200400"/>
                <a:ext cx="365040" cy="43488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rot="16200000">
                <a:off x="6120" y="298764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6c009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 flipH="1" rot="5400000">
                <a:off x="5400" y="277632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f297c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 rot="16200000">
                <a:off x="6120" y="256680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 flipH="1" rot="5400000">
                <a:off x="5400" y="235404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751fe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 rot="16200000">
                <a:off x="6120" y="214308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 flipH="1" rot="5400000">
                <a:off x="5400" y="193176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 rot="16200000">
                <a:off x="6480" y="1722600"/>
                <a:ext cx="365040" cy="434880"/>
              </a:xfrm>
              <a:prstGeom prst="triangle">
                <a:avLst>
                  <a:gd name="adj" fmla="val 49995"/>
                </a:avLst>
              </a:prstGeom>
              <a:solidFill>
                <a:srgbClr val="0100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 flipH="1" rot="5400000">
                <a:off x="5400" y="150948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16200000">
                <a:off x="6120" y="129852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b500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flipH="1" rot="5400000">
                <a:off x="6120" y="1090080"/>
                <a:ext cx="365400" cy="434880"/>
              </a:xfrm>
              <a:prstGeom prst="triangle">
                <a:avLst>
                  <a:gd name="adj" fmla="val 49995"/>
                </a:avLst>
              </a:prstGeom>
              <a:solidFill>
                <a:srgbClr val="6c009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 rot="16200000">
                <a:off x="6120" y="87444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flipH="1" rot="5400000">
                <a:off x="5400" y="66816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f297c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 rot="16200000">
                <a:off x="6120" y="45396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751fe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480" y="6480"/>
                <a:ext cx="365040" cy="43812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 flipH="1" rot="5400000">
                <a:off x="5400" y="23328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 rot="16200000">
                <a:off x="6120" y="2988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100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b7a5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dt" idx="1"/>
          </p:nvPr>
        </p:nvSpPr>
        <p:spPr>
          <a:xfrm>
            <a:off x="685800" y="61718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 type="sldNum" idx="2"/>
          </p:nvPr>
        </p:nvSpPr>
        <p:spPr>
          <a:xfrm>
            <a:off x="6553080" y="61718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15FBE-E7F0-47DC-AC41-9232F7C4905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 type="ftr" idx="3"/>
          </p:nvPr>
        </p:nvSpPr>
        <p:spPr>
          <a:xfrm>
            <a:off x="3124080" y="6171840"/>
            <a:ext cx="289584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6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"/>
          <p:cNvGrpSpPr/>
          <p:nvPr/>
        </p:nvGrpSpPr>
        <p:grpSpPr>
          <a:xfrm>
            <a:off x="-30600" y="6120"/>
            <a:ext cx="9195120" cy="6834240"/>
            <a:chOff x="-30600" y="6120"/>
            <a:chExt cx="9195120" cy="6834240"/>
          </a:xfrm>
        </p:grpSpPr>
        <p:grpSp>
          <p:nvGrpSpPr>
            <p:cNvPr id="195" name=""/>
            <p:cNvGrpSpPr/>
            <p:nvPr/>
          </p:nvGrpSpPr>
          <p:grpSpPr>
            <a:xfrm>
              <a:off x="90000" y="6120"/>
              <a:ext cx="8894880" cy="368640"/>
              <a:chOff x="90000" y="6120"/>
              <a:chExt cx="8894880" cy="368640"/>
            </a:xfrm>
          </p:grpSpPr>
          <p:sp>
            <p:nvSpPr>
              <p:cNvPr id="196" name=""/>
              <p:cNvSpPr/>
              <p:nvPr/>
            </p:nvSpPr>
            <p:spPr>
              <a:xfrm flipH="1">
                <a:off x="89640" y="6480"/>
                <a:ext cx="43812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 rot="10800000">
                <a:off x="302760" y="5760"/>
                <a:ext cx="4366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b500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 flipH="1">
                <a:off x="518400" y="6480"/>
                <a:ext cx="4366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 rot="10800000">
                <a:off x="729720" y="5760"/>
                <a:ext cx="4366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751fe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 flipH="1">
                <a:off x="941400" y="6480"/>
                <a:ext cx="4348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f297c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 rot="10800000">
                <a:off x="1152360" y="5760"/>
                <a:ext cx="43344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 flipH="1">
                <a:off x="1364400" y="6480"/>
                <a:ext cx="438120" cy="368280"/>
              </a:xfrm>
              <a:prstGeom prst="triangle">
                <a:avLst>
                  <a:gd name="adj" fmla="val 49995"/>
                </a:avLst>
              </a:prstGeom>
              <a:solidFill>
                <a:srgbClr val="6c009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 rot="10800000">
                <a:off x="1569600" y="5760"/>
                <a:ext cx="4366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b500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 flipH="1">
                <a:off x="1785240" y="6480"/>
                <a:ext cx="43812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 rot="10800000">
                <a:off x="1994040" y="5760"/>
                <a:ext cx="43632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100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 flipH="1">
                <a:off x="2204280" y="6480"/>
                <a:ext cx="4366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 rot="10800000">
                <a:off x="2415960" y="5760"/>
                <a:ext cx="438120" cy="368280"/>
              </a:xfrm>
              <a:prstGeom prst="triangle">
                <a:avLst>
                  <a:gd name="adj" fmla="val 49995"/>
                </a:avLst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 flipH="1">
                <a:off x="2628360" y="6480"/>
                <a:ext cx="438120" cy="368280"/>
              </a:xfrm>
              <a:prstGeom prst="triangle">
                <a:avLst>
                  <a:gd name="adj" fmla="val 49995"/>
                </a:avLst>
              </a:prstGeom>
              <a:solidFill>
                <a:srgbClr val="751fe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10800000">
                <a:off x="2836440" y="5760"/>
                <a:ext cx="4366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flipH="1">
                <a:off x="3048120" y="6480"/>
                <a:ext cx="436320" cy="368280"/>
              </a:xfrm>
              <a:prstGeom prst="triangle">
                <a:avLst>
                  <a:gd name="adj" fmla="val 49995"/>
                </a:avLst>
              </a:prstGeom>
              <a:solidFill>
                <a:srgbClr val="f297c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10800000">
                <a:off x="3260880" y="5760"/>
                <a:ext cx="4348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6c009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flipH="1">
                <a:off x="3471840" y="6480"/>
                <a:ext cx="43344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10800000">
                <a:off x="3677760" y="5760"/>
                <a:ext cx="4366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b500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>
                <a:off x="3890160" y="6480"/>
                <a:ext cx="4366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100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10800000">
                <a:off x="4101840" y="5760"/>
                <a:ext cx="43812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>
                <a:off x="4314960" y="6480"/>
                <a:ext cx="436320" cy="368280"/>
              </a:xfrm>
              <a:prstGeom prst="triangle">
                <a:avLst>
                  <a:gd name="adj" fmla="val 49995"/>
                </a:avLst>
              </a:prstGeom>
              <a:solidFill>
                <a:srgbClr val="751fe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10800000">
                <a:off x="4525920" y="5760"/>
                <a:ext cx="4348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flipH="1">
                <a:off x="4734000" y="6480"/>
                <a:ext cx="436320" cy="368280"/>
              </a:xfrm>
              <a:prstGeom prst="triangle">
                <a:avLst>
                  <a:gd name="adj" fmla="val 49995"/>
                </a:avLst>
              </a:prstGeom>
              <a:solidFill>
                <a:srgbClr val="f297c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10800000">
                <a:off x="4944600" y="5760"/>
                <a:ext cx="438120" cy="368280"/>
              </a:xfrm>
              <a:prstGeom prst="triangle">
                <a:avLst>
                  <a:gd name="adj" fmla="val 49995"/>
                </a:avLst>
              </a:prstGeom>
              <a:solidFill>
                <a:srgbClr val="6c009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flipH="1">
                <a:off x="5157000" y="6480"/>
                <a:ext cx="4366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10800000">
                <a:off x="5366880" y="5760"/>
                <a:ext cx="435240" cy="368280"/>
              </a:xfrm>
              <a:prstGeom prst="triangle">
                <a:avLst>
                  <a:gd name="adj" fmla="val 49995"/>
                </a:avLst>
              </a:prstGeom>
              <a:solidFill>
                <a:srgbClr val="b500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>
                <a:off x="5580000" y="6480"/>
                <a:ext cx="4348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100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10800000">
                <a:off x="5787720" y="5760"/>
                <a:ext cx="4366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>
                <a:off x="5998320" y="6480"/>
                <a:ext cx="4366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10800000">
                <a:off x="6208200" y="5760"/>
                <a:ext cx="4366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751fe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flipH="1">
                <a:off x="6419160" y="6480"/>
                <a:ext cx="4366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10800000">
                <a:off x="6630480" y="5760"/>
                <a:ext cx="4366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f297c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flipH="1">
                <a:off x="6845400" y="6480"/>
                <a:ext cx="436320" cy="368280"/>
              </a:xfrm>
              <a:prstGeom prst="triangle">
                <a:avLst>
                  <a:gd name="adj" fmla="val 49995"/>
                </a:avLst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10800000">
                <a:off x="7054920" y="5760"/>
                <a:ext cx="4348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100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flipH="1">
                <a:off x="7263720" y="6480"/>
                <a:ext cx="4366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10800000">
                <a:off x="7475040" y="5760"/>
                <a:ext cx="435240" cy="368280"/>
              </a:xfrm>
              <a:prstGeom prst="triangle">
                <a:avLst>
                  <a:gd name="adj" fmla="val 49995"/>
                </a:avLst>
              </a:prstGeom>
              <a:solidFill>
                <a:srgbClr val="751fe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flipH="1">
                <a:off x="7686720" y="6480"/>
                <a:ext cx="4348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f297c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10800000">
                <a:off x="7899480" y="5760"/>
                <a:ext cx="4348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flipH="1">
                <a:off x="8124120" y="6480"/>
                <a:ext cx="4366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0800000">
                <a:off x="8337240" y="5760"/>
                <a:ext cx="438120" cy="368280"/>
              </a:xfrm>
              <a:prstGeom prst="triangle">
                <a:avLst>
                  <a:gd name="adj" fmla="val 49995"/>
                </a:avLst>
              </a:prstGeom>
              <a:solidFill>
                <a:srgbClr val="b500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flipH="1">
                <a:off x="8547840" y="6480"/>
                <a:ext cx="4366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100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37" name=""/>
            <p:cNvGrpSpPr/>
            <p:nvPr/>
          </p:nvGrpSpPr>
          <p:grpSpPr>
            <a:xfrm>
              <a:off x="8726040" y="6480"/>
              <a:ext cx="438480" cy="6832440"/>
              <a:chOff x="8726040" y="6480"/>
              <a:chExt cx="438480" cy="6832440"/>
            </a:xfrm>
          </p:grpSpPr>
          <p:sp>
            <p:nvSpPr>
              <p:cNvPr id="238" name=""/>
              <p:cNvSpPr/>
              <p:nvPr/>
            </p:nvSpPr>
            <p:spPr>
              <a:xfrm>
                <a:off x="8766000" y="6480"/>
                <a:ext cx="358920" cy="43812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flipH="1" rot="5400000">
                <a:off x="8765280" y="34560"/>
                <a:ext cx="358920" cy="438120"/>
              </a:xfrm>
              <a:prstGeom prst="triangle">
                <a:avLst>
                  <a:gd name="adj" fmla="val 49995"/>
                </a:avLst>
              </a:prstGeom>
              <a:solidFill>
                <a:srgbClr val="6c009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16200000">
                <a:off x="8766000" y="250560"/>
                <a:ext cx="358920" cy="438120"/>
              </a:xfrm>
              <a:prstGeom prst="triangle">
                <a:avLst>
                  <a:gd name="adj" fmla="val 49995"/>
                </a:avLst>
              </a:prstGeom>
              <a:solidFill>
                <a:srgbClr val="b500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flipH="1" rot="5400000">
                <a:off x="8766360" y="465120"/>
                <a:ext cx="358560" cy="43488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6200000">
                <a:off x="8766000" y="688680"/>
                <a:ext cx="35892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100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flipH="1" rot="5400000">
                <a:off x="8765280" y="898200"/>
                <a:ext cx="35892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16200000">
                <a:off x="8766000" y="1112400"/>
                <a:ext cx="358920" cy="43488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flipH="1" rot="5400000">
                <a:off x="8765280" y="1323720"/>
                <a:ext cx="358920" cy="438120"/>
              </a:xfrm>
              <a:prstGeom prst="triangle">
                <a:avLst>
                  <a:gd name="adj" fmla="val 49995"/>
                </a:avLst>
              </a:prstGeom>
              <a:solidFill>
                <a:srgbClr val="751fe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16200000">
                <a:off x="8766000" y="1533240"/>
                <a:ext cx="358920" cy="438120"/>
              </a:xfrm>
              <a:prstGeom prst="triangle">
                <a:avLst>
                  <a:gd name="adj" fmla="val 49995"/>
                </a:avLst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flipH="1" rot="5400000">
                <a:off x="8765280" y="1742760"/>
                <a:ext cx="358920" cy="438120"/>
              </a:xfrm>
              <a:prstGeom prst="triangle">
                <a:avLst>
                  <a:gd name="adj" fmla="val 49995"/>
                </a:avLst>
              </a:prstGeom>
              <a:solidFill>
                <a:srgbClr val="f297c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16200000">
                <a:off x="8766000" y="1956960"/>
                <a:ext cx="358920" cy="438120"/>
              </a:xfrm>
              <a:prstGeom prst="triangle">
                <a:avLst>
                  <a:gd name="adj" fmla="val 49995"/>
                </a:avLst>
              </a:prstGeom>
              <a:solidFill>
                <a:srgbClr val="6c009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flipH="1" rot="5400000">
                <a:off x="8765280" y="2166840"/>
                <a:ext cx="35856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16200000">
                <a:off x="8766000" y="2377800"/>
                <a:ext cx="358920" cy="438120"/>
              </a:xfrm>
              <a:prstGeom prst="triangle">
                <a:avLst>
                  <a:gd name="adj" fmla="val 49995"/>
                </a:avLst>
              </a:prstGeom>
              <a:solidFill>
                <a:srgbClr val="b500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flipH="1" rot="5400000">
                <a:off x="8766360" y="2590920"/>
                <a:ext cx="358560" cy="434880"/>
              </a:xfrm>
              <a:prstGeom prst="triangle">
                <a:avLst>
                  <a:gd name="adj" fmla="val 49995"/>
                </a:avLst>
              </a:prstGeom>
              <a:solidFill>
                <a:srgbClr val="0100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16200000">
                <a:off x="8766000" y="2801520"/>
                <a:ext cx="35892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flipH="1" rot="5400000">
                <a:off x="8765280" y="3012840"/>
                <a:ext cx="358560" cy="438120"/>
              </a:xfrm>
              <a:prstGeom prst="triangle">
                <a:avLst>
                  <a:gd name="adj" fmla="val 49995"/>
                </a:avLst>
              </a:prstGeom>
              <a:solidFill>
                <a:srgbClr val="751fe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16200000">
                <a:off x="8766000" y="3225240"/>
                <a:ext cx="358920" cy="43488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flipH="1" rot="5400000">
                <a:off x="8765280" y="3435120"/>
                <a:ext cx="358560" cy="438120"/>
              </a:xfrm>
              <a:prstGeom prst="triangle">
                <a:avLst>
                  <a:gd name="adj" fmla="val 49995"/>
                </a:avLst>
              </a:prstGeom>
              <a:solidFill>
                <a:srgbClr val="f297c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16200000">
                <a:off x="8766000" y="3646080"/>
                <a:ext cx="358920" cy="438120"/>
              </a:xfrm>
              <a:prstGeom prst="triangle">
                <a:avLst>
                  <a:gd name="adj" fmla="val 49995"/>
                </a:avLst>
              </a:prstGeom>
              <a:solidFill>
                <a:srgbClr val="6c009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flipH="1" rot="5400000">
                <a:off x="8766360" y="3859200"/>
                <a:ext cx="358560" cy="43488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16200000">
                <a:off x="8766000" y="4070160"/>
                <a:ext cx="358560" cy="438120"/>
              </a:xfrm>
              <a:prstGeom prst="triangle">
                <a:avLst>
                  <a:gd name="adj" fmla="val 49995"/>
                </a:avLst>
              </a:prstGeom>
              <a:solidFill>
                <a:srgbClr val="b500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flipH="1" rot="5400000">
                <a:off x="8765280" y="4281120"/>
                <a:ext cx="35892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100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16200000">
                <a:off x="8766000" y="4490640"/>
                <a:ext cx="35892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flipH="1" rot="5400000">
                <a:off x="8765280" y="4703400"/>
                <a:ext cx="35892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16200000">
                <a:off x="8766000" y="4914720"/>
                <a:ext cx="358560" cy="438120"/>
              </a:xfrm>
              <a:prstGeom prst="triangle">
                <a:avLst>
                  <a:gd name="adj" fmla="val 49995"/>
                </a:avLst>
              </a:prstGeom>
              <a:solidFill>
                <a:srgbClr val="751fe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flipH="1" rot="5400000">
                <a:off x="8765280" y="5124240"/>
                <a:ext cx="358560" cy="438120"/>
              </a:xfrm>
              <a:prstGeom prst="triangle">
                <a:avLst>
                  <a:gd name="adj" fmla="val 49995"/>
                </a:avLst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6200000">
                <a:off x="8766360" y="5338800"/>
                <a:ext cx="358560" cy="434880"/>
              </a:xfrm>
              <a:prstGeom prst="triangle">
                <a:avLst>
                  <a:gd name="adj" fmla="val 49995"/>
                </a:avLst>
              </a:prstGeom>
              <a:solidFill>
                <a:srgbClr val="f297c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8766000" y="6400800"/>
                <a:ext cx="358920" cy="43812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flipH="1" rot="5400000">
                <a:off x="8765280" y="5549760"/>
                <a:ext cx="35856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6200000">
                <a:off x="8766000" y="5759280"/>
                <a:ext cx="35856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100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flipH="1" rot="5400000">
                <a:off x="8766000" y="5976360"/>
                <a:ext cx="358920" cy="434880"/>
              </a:xfrm>
              <a:prstGeom prst="triangle">
                <a:avLst>
                  <a:gd name="adj" fmla="val 49995"/>
                </a:avLst>
              </a:prstGeom>
              <a:solidFill>
                <a:srgbClr val="b500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6200000">
                <a:off x="8766000" y="6186240"/>
                <a:ext cx="35892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flipH="1" rot="5400000">
                <a:off x="8765280" y="6400440"/>
                <a:ext cx="35892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100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71" name=""/>
            <p:cNvGrpSpPr/>
            <p:nvPr/>
          </p:nvGrpSpPr>
          <p:grpSpPr>
            <a:xfrm>
              <a:off x="35640" y="6481800"/>
              <a:ext cx="8738640" cy="358560"/>
              <a:chOff x="35640" y="6481800"/>
              <a:chExt cx="8738640" cy="358560"/>
            </a:xfrm>
          </p:grpSpPr>
          <p:sp>
            <p:nvSpPr>
              <p:cNvPr id="272" name=""/>
              <p:cNvSpPr/>
              <p:nvPr/>
            </p:nvSpPr>
            <p:spPr>
              <a:xfrm rot="10800000">
                <a:off x="8545680" y="6483240"/>
                <a:ext cx="217440" cy="355680"/>
              </a:xfrm>
              <a:prstGeom prst="rtTriangle">
                <a:avLst/>
              </a:prstGeom>
              <a:solidFill>
                <a:srgbClr val="751fe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flipH="1">
                <a:off x="8332920" y="6483240"/>
                <a:ext cx="441360" cy="357120"/>
              </a:xfrm>
              <a:prstGeom prst="triangle">
                <a:avLst>
                  <a:gd name="adj" fmla="val 49995"/>
                </a:avLst>
              </a:prstGeom>
              <a:solidFill>
                <a:srgbClr val="b500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0800000">
                <a:off x="8121240" y="6481800"/>
                <a:ext cx="4381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100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flipH="1">
                <a:off x="7913520" y="6483240"/>
                <a:ext cx="43848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0800000">
                <a:off x="7699320" y="6481800"/>
                <a:ext cx="44136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flipH="1">
                <a:off x="7475400" y="6483240"/>
                <a:ext cx="4399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751fe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flipH="1" rot="10800000">
                <a:off x="7254720" y="6481800"/>
                <a:ext cx="433440" cy="357120"/>
              </a:xfrm>
              <a:prstGeom prst="triangle">
                <a:avLst>
                  <a:gd name="adj" fmla="val 49995"/>
                </a:avLst>
              </a:prstGeom>
              <a:solidFill>
                <a:srgbClr val="b500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7043760" y="6483240"/>
                <a:ext cx="43956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flipH="1" rot="10800000">
                <a:off x="6828480" y="6481800"/>
                <a:ext cx="439560" cy="357120"/>
              </a:xfrm>
              <a:prstGeom prst="triangle">
                <a:avLst>
                  <a:gd name="adj" fmla="val 49995"/>
                </a:avLst>
              </a:prstGeom>
              <a:solidFill>
                <a:srgbClr val="751fe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6618240" y="6483240"/>
                <a:ext cx="436680" cy="357120"/>
              </a:xfrm>
              <a:prstGeom prst="triangle">
                <a:avLst>
                  <a:gd name="adj" fmla="val 49995"/>
                </a:avLst>
              </a:prstGeom>
              <a:solidFill>
                <a:srgbClr val="f297c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flipH="1" rot="10800000">
                <a:off x="6407640" y="6481800"/>
                <a:ext cx="4381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6195960" y="6483240"/>
                <a:ext cx="4381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6c009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flipH="1" rot="10800000">
                <a:off x="5985360" y="6481800"/>
                <a:ext cx="436680" cy="357120"/>
              </a:xfrm>
              <a:prstGeom prst="triangle">
                <a:avLst>
                  <a:gd name="adj" fmla="val 49995"/>
                </a:avLst>
              </a:prstGeom>
              <a:solidFill>
                <a:srgbClr val="b500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5773680" y="6483240"/>
                <a:ext cx="4381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flipH="1" rot="10800000">
                <a:off x="5563080" y="6481800"/>
                <a:ext cx="43668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100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5354640" y="6483240"/>
                <a:ext cx="4381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flipH="1" rot="10800000">
                <a:off x="5139360" y="6481800"/>
                <a:ext cx="4381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4930920" y="6483240"/>
                <a:ext cx="4363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751fe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flipH="1" rot="10800000">
                <a:off x="4717080" y="6481800"/>
                <a:ext cx="43956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4511520" y="6483240"/>
                <a:ext cx="433440" cy="357120"/>
              </a:xfrm>
              <a:prstGeom prst="triangle">
                <a:avLst>
                  <a:gd name="adj" fmla="val 49995"/>
                </a:avLst>
              </a:prstGeom>
              <a:solidFill>
                <a:srgbClr val="f297c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flipH="1" rot="10800000">
                <a:off x="4296240" y="6481800"/>
                <a:ext cx="4381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6c009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4086360" y="6483240"/>
                <a:ext cx="43956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flipH="1" rot="10800000">
                <a:off x="3875040" y="6481800"/>
                <a:ext cx="433440" cy="357120"/>
              </a:xfrm>
              <a:prstGeom prst="triangle">
                <a:avLst>
                  <a:gd name="adj" fmla="val 49995"/>
                </a:avLst>
              </a:prstGeom>
              <a:solidFill>
                <a:srgbClr val="b500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3664080" y="6483240"/>
                <a:ext cx="4381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100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 rot="10800000">
                <a:off x="3449520" y="6481800"/>
                <a:ext cx="4399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3241800" y="6483240"/>
                <a:ext cx="433440" cy="357120"/>
              </a:xfrm>
              <a:prstGeom prst="triangle">
                <a:avLst>
                  <a:gd name="adj" fmla="val 49995"/>
                </a:avLst>
              </a:prstGeom>
              <a:solidFill>
                <a:srgbClr val="751fe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 rot="10800000">
                <a:off x="3027960" y="6481800"/>
                <a:ext cx="4381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2819520" y="6483240"/>
                <a:ext cx="4381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f297c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flipH="1" rot="10800000">
                <a:off x="2608200" y="6481800"/>
                <a:ext cx="434880" cy="357120"/>
              </a:xfrm>
              <a:prstGeom prst="triangle">
                <a:avLst>
                  <a:gd name="adj" fmla="val 49995"/>
                </a:avLst>
              </a:prstGeom>
              <a:solidFill>
                <a:srgbClr val="6c009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395440" y="6483240"/>
                <a:ext cx="4381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H="1" rot="10800000">
                <a:off x="2184480" y="6481800"/>
                <a:ext cx="4363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b500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973160" y="6483240"/>
                <a:ext cx="43668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100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 rot="10800000">
                <a:off x="1759320" y="6481800"/>
                <a:ext cx="43668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1552680" y="6483240"/>
                <a:ext cx="4381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H="1" rot="10800000">
                <a:off x="1338120" y="6481800"/>
                <a:ext cx="4399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751fe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1128600" y="6483240"/>
                <a:ext cx="436680" cy="357120"/>
              </a:xfrm>
              <a:prstGeom prst="triangle">
                <a:avLst>
                  <a:gd name="adj" fmla="val 49995"/>
                </a:avLst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0800000">
                <a:off x="916560" y="6481800"/>
                <a:ext cx="4381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f297c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704880" y="6483240"/>
                <a:ext cx="43956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H="1" rot="10800000">
                <a:off x="473760" y="6481800"/>
                <a:ext cx="439560" cy="357120"/>
              </a:xfrm>
              <a:prstGeom prst="triangle">
                <a:avLst>
                  <a:gd name="adj" fmla="val 49995"/>
                </a:avLst>
              </a:prstGeom>
              <a:solidFill>
                <a:srgbClr val="b500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263520" y="6483240"/>
                <a:ext cx="4381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100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rot="10800000">
                <a:off x="35280" y="6481800"/>
                <a:ext cx="43668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13" name=""/>
            <p:cNvGrpSpPr/>
            <p:nvPr/>
          </p:nvGrpSpPr>
          <p:grpSpPr>
            <a:xfrm>
              <a:off x="-30600" y="6480"/>
              <a:ext cx="438480" cy="6832440"/>
              <a:chOff x="-30600" y="6480"/>
              <a:chExt cx="438480" cy="6832440"/>
            </a:xfrm>
          </p:grpSpPr>
          <p:sp>
            <p:nvSpPr>
              <p:cNvPr id="314" name=""/>
              <p:cNvSpPr/>
              <p:nvPr/>
            </p:nvSpPr>
            <p:spPr>
              <a:xfrm>
                <a:off x="6480" y="6400800"/>
                <a:ext cx="365040" cy="43812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6200000">
                <a:off x="6120" y="636876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751fe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flipH="1" rot="5400000">
                <a:off x="5400" y="615924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b500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6200000">
                <a:off x="6480" y="5948280"/>
                <a:ext cx="365040" cy="434880"/>
              </a:xfrm>
              <a:prstGeom prst="triangle">
                <a:avLst>
                  <a:gd name="adj" fmla="val 49995"/>
                </a:avLst>
              </a:prstGeom>
              <a:solidFill>
                <a:srgbClr val="f297c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flipH="1" rot="5400000">
                <a:off x="5040" y="5733720"/>
                <a:ext cx="36540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6200000">
                <a:off x="6120" y="552420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flipH="1" rot="5400000">
                <a:off x="5400" y="531468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100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 anchorCtr="1" vert="eaVert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6200000">
                <a:off x="6120" y="510048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b500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flipH="1" rot="5400000">
                <a:off x="5040" y="4889160"/>
                <a:ext cx="36540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16200000">
                <a:off x="6120" y="4679640"/>
                <a:ext cx="365400" cy="438120"/>
              </a:xfrm>
              <a:prstGeom prst="triangle">
                <a:avLst>
                  <a:gd name="adj" fmla="val 49995"/>
                </a:avLst>
              </a:prstGeom>
              <a:solidFill>
                <a:srgbClr val="6c009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flipH="1" rot="5400000">
                <a:off x="5400" y="446544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f297c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16200000">
                <a:off x="6120" y="425592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flipH="1" rot="5400000">
                <a:off x="5400" y="404640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751fe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6200000">
                <a:off x="6480" y="3835440"/>
                <a:ext cx="365040" cy="434880"/>
              </a:xfrm>
              <a:prstGeom prst="triangle">
                <a:avLst>
                  <a:gd name="adj" fmla="val 49995"/>
                </a:avLst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 flipH="1" rot="5400000">
                <a:off x="5400" y="362088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100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 rot="16200000">
                <a:off x="6120" y="341136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b500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 flipH="1" rot="5400000">
                <a:off x="6120" y="3200400"/>
                <a:ext cx="365040" cy="43488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 rot="16200000">
                <a:off x="6120" y="298764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6c009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 flipH="1" rot="5400000">
                <a:off x="5400" y="277632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f297c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 rot="16200000">
                <a:off x="6120" y="256680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 flipH="1" rot="5400000">
                <a:off x="5400" y="235404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751fe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 rot="16200000">
                <a:off x="6120" y="214308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 flipH="1" rot="5400000">
                <a:off x="5400" y="193176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16200000">
                <a:off x="6480" y="1722600"/>
                <a:ext cx="365040" cy="434880"/>
              </a:xfrm>
              <a:prstGeom prst="triangle">
                <a:avLst>
                  <a:gd name="adj" fmla="val 49995"/>
                </a:avLst>
              </a:prstGeom>
              <a:solidFill>
                <a:srgbClr val="0100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flipH="1" rot="5400000">
                <a:off x="5400" y="150948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 rot="16200000">
                <a:off x="6120" y="129852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b500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flipH="1" rot="5400000">
                <a:off x="6120" y="1090080"/>
                <a:ext cx="365400" cy="434880"/>
              </a:xfrm>
              <a:prstGeom prst="triangle">
                <a:avLst>
                  <a:gd name="adj" fmla="val 49995"/>
                </a:avLst>
              </a:prstGeom>
              <a:solidFill>
                <a:srgbClr val="6c009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 rot="16200000">
                <a:off x="6120" y="87444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flipH="1" rot="5400000">
                <a:off x="5400" y="66816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f297c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 rot="16200000">
                <a:off x="6120" y="45396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751fe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6480" y="6480"/>
                <a:ext cx="365040" cy="43812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 flipH="1" rot="5400000">
                <a:off x="5400" y="23328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rot="16200000">
                <a:off x="6120" y="2988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100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b7a5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dt" idx="4"/>
          </p:nvPr>
        </p:nvSpPr>
        <p:spPr>
          <a:xfrm>
            <a:off x="685800" y="6019920"/>
            <a:ext cx="19051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 type="ftr" idx="5"/>
          </p:nvPr>
        </p:nvSpPr>
        <p:spPr>
          <a:xfrm>
            <a:off x="3124080" y="6019920"/>
            <a:ext cx="289584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 type="sldNum" idx="6"/>
          </p:nvPr>
        </p:nvSpPr>
        <p:spPr>
          <a:xfrm>
            <a:off x="6553080" y="6019920"/>
            <a:ext cx="19051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B8775-C4D0-4ED9-947F-49EBAD1D981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image" Target="../media/image21.wmf"/><Relationship Id="rId5" Type="http://schemas.openxmlformats.org/officeDocument/2006/relationships/audio" Target="file:///tmp/home/.config/libreoffice/4/user/gallery/sucotash.wav" TargetMode="External"/><Relationship Id="rId6" Type="http://schemas.microsoft.com/office/2007/relationships/media" Target="file:///tmp/home/.config/libreoffice/4/user/gallery/sucotash.wav" TargetMode="External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MSj00747510000%5B1%5D.wav" TargetMode="External"/><Relationship Id="rId2" Type="http://schemas.microsoft.com/office/2007/relationships/media" Target="file:///tmp/home/.config/libreoffice/4/user/gallery/MSj00747510000%5B1%5D.wav" TargetMode="External"/><Relationship Id="rId3" Type="http://schemas.openxmlformats.org/officeDocument/2006/relationships/image" Target="../media/image4.png"/><Relationship Id="rId4" Type="http://schemas.openxmlformats.org/officeDocument/2006/relationships/image" Target="../media/image23.wmf"/><Relationship Id="rId5" Type="http://schemas.openxmlformats.org/officeDocument/2006/relationships/image" Target="../media/image24.wmf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audio" Target="file:///tmp/home/.config/libreoffice/4/user/gallery/yellgroan2.wav" TargetMode="External"/><Relationship Id="rId4" Type="http://schemas.microsoft.com/office/2007/relationships/media" Target="file:///tmp/home/.config/libreoffice/4/user/gallery/yellgroan2.wav" TargetMode="External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audio" Target="file:///tmp/home/.config/libreoffice/4/user/gallery/storm.wav" TargetMode="External"/><Relationship Id="rId3" Type="http://schemas.microsoft.com/office/2007/relationships/media" Target="file:///tmp/home/.config/libreoffice/4/user/gallery/storm.wav" TargetMode="External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audio" Target="file:///tmp/home/.config/libreoffice/4/user/gallery/reallly.wav" TargetMode="External"/><Relationship Id="rId5" Type="http://schemas.microsoft.com/office/2007/relationships/media" Target="file:///tmp/home/.config/libreoffice/4/user/gallery/reallly.wav" TargetMode="External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6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b7a5"/>
                </a:solidFill>
                <a:latin typeface="Times New Roman"/>
              </a:rPr>
              <a:t>Tara and Tiree</a:t>
            </a:r>
            <a:br>
              <a:rPr sz="6000"/>
            </a:br>
            <a:r>
              <a:rPr b="0" lang="en-US" sz="6000" spc="-1" strike="noStrike">
                <a:solidFill>
                  <a:srgbClr val="00b7a5"/>
                </a:solidFill>
                <a:latin typeface="Times New Roman"/>
              </a:rPr>
              <a:t>Vocabulary and Amazing Words</a:t>
            </a:r>
            <a:endParaRPr b="0" lang="en-US" sz="60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subTitle"/>
          </p:nvPr>
        </p:nvSpPr>
        <p:spPr>
          <a:xfrm>
            <a:off x="1295280" y="4572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Grade Read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90" name="" descr=""/>
          <p:cNvPicPr/>
          <p:nvPr/>
        </p:nvPicPr>
        <p:blipFill>
          <a:blip r:embed="rId1"/>
          <a:stretch/>
        </p:blipFill>
        <p:spPr>
          <a:xfrm>
            <a:off x="7467480" y="10666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" dur="3656" fill="hold"/>
                                        <p:tgtEl>
                                          <p:spTgt spid="3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6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b7a5"/>
                </a:solidFill>
                <a:latin typeface="Times New Roman"/>
              </a:rPr>
              <a:t>instinct</a:t>
            </a:r>
            <a:endParaRPr b="0" lang="en-US" sz="60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Times New Roman"/>
              </a:rPr>
              <a:t>An ability an animal is born with that makes it act in a certain way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30" name="" descr=""/>
          <p:cNvPicPr/>
          <p:nvPr/>
        </p:nvPicPr>
        <p:blipFill>
          <a:blip r:embed="rId1"/>
          <a:stretch/>
        </p:blipFill>
        <p:spPr>
          <a:xfrm>
            <a:off x="4495680" y="4038480"/>
            <a:ext cx="3048120" cy="20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0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6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b7a5"/>
                </a:solidFill>
                <a:latin typeface="Times New Roman"/>
              </a:rPr>
              <a:t>skittish</a:t>
            </a:r>
            <a:endParaRPr b="0" lang="en-US" sz="60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Times New Roman"/>
              </a:rPr>
              <a:t>Nervous and easily upset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33" name="" descr=""/>
          <p:cNvPicPr/>
          <p:nvPr/>
        </p:nvPicPr>
        <p:blipFill>
          <a:blip r:embed="rId1"/>
          <a:stretch/>
        </p:blipFill>
        <p:spPr>
          <a:xfrm>
            <a:off x="5257800" y="3048120"/>
            <a:ext cx="1981080" cy="2025360"/>
          </a:xfrm>
          <a:prstGeom prst="rect">
            <a:avLst/>
          </a:prstGeom>
          <a:ln w="0">
            <a:noFill/>
          </a:ln>
        </p:spPr>
      </p:pic>
      <p:pic>
        <p:nvPicPr>
          <p:cNvPr id="434" name="" descr=""/>
          <p:cNvPicPr/>
          <p:nvPr/>
        </p:nvPicPr>
        <p:blipFill>
          <a:blip r:embed="rId2"/>
          <a:stretch/>
        </p:blipFill>
        <p:spPr>
          <a:xfrm>
            <a:off x="1752480" y="3276720"/>
            <a:ext cx="1851120" cy="1869840"/>
          </a:xfrm>
          <a:prstGeom prst="rect">
            <a:avLst/>
          </a:prstGeom>
          <a:ln w="0">
            <a:noFill/>
          </a:ln>
        </p:spPr>
      </p:pic>
      <p:pic>
        <p:nvPicPr>
          <p:cNvPr id="435" name="" descr=""/>
          <p:cNvPicPr/>
          <p:nvPr/>
        </p:nvPicPr>
        <p:blipFill>
          <a:blip r:embed="rId3"/>
          <a:stretch/>
        </p:blipFill>
        <p:spPr>
          <a:xfrm>
            <a:off x="8153280" y="6094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0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240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898" fill="hold"/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1000"/>
                            </p:stCondLst>
                            <p:childTnLst>
                              <p:par>
                                <p:cTn id="25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1" dur="11385" fill="hold"/>
                                        <p:tgtEl>
                                          <p:spTgt spid="4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6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b7a5"/>
                </a:solidFill>
                <a:latin typeface="Times New Roman"/>
              </a:rPr>
              <a:t>blustery</a:t>
            </a:r>
            <a:endParaRPr b="0" lang="en-US" sz="60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112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Times New Roman"/>
              </a:rPr>
              <a:t>When the wind blows hard and makes a lot of noise.</a:t>
            </a:r>
            <a:endParaRPr b="0" lang="en-US" sz="45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38" name="" descr=""/>
          <p:cNvPicPr/>
          <p:nvPr/>
        </p:nvPicPr>
        <p:blipFill>
          <a:blip r:embed="rId1"/>
          <a:stretch/>
        </p:blipFill>
        <p:spPr>
          <a:xfrm>
            <a:off x="6553080" y="3429000"/>
            <a:ext cx="970200" cy="765000"/>
          </a:xfrm>
          <a:prstGeom prst="rect">
            <a:avLst/>
          </a:prstGeom>
          <a:ln w="0">
            <a:noFill/>
          </a:ln>
        </p:spPr>
      </p:pic>
      <p:pic>
        <p:nvPicPr>
          <p:cNvPr id="439" name="" descr=""/>
          <p:cNvPicPr/>
          <p:nvPr/>
        </p:nvPicPr>
        <p:blipFill>
          <a:blip r:embed="rId2"/>
          <a:stretch/>
        </p:blipFill>
        <p:spPr>
          <a:xfrm>
            <a:off x="1600200" y="3124080"/>
            <a:ext cx="4595760" cy="3330720"/>
          </a:xfrm>
          <a:prstGeom prst="rect">
            <a:avLst/>
          </a:prstGeom>
          <a:ln w="0">
            <a:noFill/>
          </a:ln>
        </p:spPr>
      </p:pic>
      <p:pic>
        <p:nvPicPr>
          <p:cNvPr id="440" name="" descr=""/>
          <p:cNvPicPr/>
          <p:nvPr/>
        </p:nvPicPr>
        <p:blipFill>
          <a:blip r:embed="rId3"/>
          <a:stretch/>
        </p:blipFill>
        <p:spPr>
          <a:xfrm>
            <a:off x="6248520" y="685800"/>
            <a:ext cx="1906560" cy="1446120"/>
          </a:xfrm>
          <a:prstGeom prst="rect">
            <a:avLst/>
          </a:prstGeom>
          <a:ln w="0">
            <a:noFill/>
          </a:ln>
        </p:spPr>
      </p:pic>
      <p:pic>
        <p:nvPicPr>
          <p:cNvPr id="441" name="" descr=""/>
          <p:cNvPicPr/>
          <p:nvPr/>
        </p:nvPicPr>
        <p:blipFill>
          <a:blip r:embed="rId4"/>
          <a:stretch/>
        </p:blipFill>
        <p:spPr>
          <a:xfrm>
            <a:off x="762120" y="380880"/>
            <a:ext cx="1047600" cy="1422360"/>
          </a:xfrm>
          <a:prstGeom prst="rect">
            <a:avLst/>
          </a:prstGeom>
          <a:ln w="0">
            <a:noFill/>
          </a:ln>
        </p:spPr>
      </p:pic>
      <p:pic>
        <p:nvPicPr>
          <p:cNvPr id="442" name="" descr="">
            <a:hlinkClick r:id="" action="ppaction://media"/>
          </p:cNvPr>
          <p:cNvPicPr/>
          <p:nvPr>
            <a:audioFile r:link="rId5"/>
            <p:extLst>
              <p:ext uri="{DAA4B4D4-6D71-4841-9C94-3DE7FCFB9230}">
                <p14:media r:link="rId6"/>
              </p:ext>
            </p:extLst>
          </p:nvPr>
        </p:nvPicPr>
        <p:blipFill>
          <a:blip r:embed="rId7"/>
          <a:stretch>
            <a:fillRect/>
          </a:stretch>
        </p:blipFill>
        <p:spPr>
          <a:xfrm>
            <a:off x="8077320" y="5335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0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2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2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2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2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2450"/>
                            </p:stCondLst>
                            <p:childTnLst>
                              <p:par>
                                <p:cTn id="27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1" dur="9089" fill="hold"/>
                                        <p:tgtEl>
                                          <p:spTgt spid="4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42"/>
                </p:tgtEl>
              </p:cMediaNode>
            </p:audio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6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b7a5"/>
                </a:solidFill>
                <a:latin typeface="Times New Roman"/>
              </a:rPr>
              <a:t>avalanche</a:t>
            </a:r>
            <a:endParaRPr b="0" lang="en-US" sz="60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Times New Roman"/>
              </a:rPr>
              <a:t>When a lot of snow suddenly slides down a mountain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45" name="" descr=""/>
          <p:cNvPicPr/>
          <p:nvPr/>
        </p:nvPicPr>
        <p:blipFill>
          <a:blip r:embed="rId1"/>
          <a:stretch/>
        </p:blipFill>
        <p:spPr>
          <a:xfrm>
            <a:off x="2286000" y="3505320"/>
            <a:ext cx="4191120" cy="2514600"/>
          </a:xfrm>
          <a:prstGeom prst="rect">
            <a:avLst/>
          </a:prstGeom>
          <a:ln w="0">
            <a:noFill/>
          </a:ln>
        </p:spPr>
      </p:pic>
      <p:pic>
        <p:nvPicPr>
          <p:cNvPr id="446" name="" descr=""/>
          <p:cNvPicPr/>
          <p:nvPr/>
        </p:nvPicPr>
        <p:blipFill>
          <a:blip r:embed="rId2"/>
          <a:stretch/>
        </p:blipFill>
        <p:spPr>
          <a:xfrm>
            <a:off x="7924680" y="7621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0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500"/>
                            </p:stCondLst>
                            <p:childTnLst>
                              <p:par>
                                <p:cTn id="28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8" dur="2669" fill="hold"/>
                                        <p:tgtEl>
                                          <p:spTgt spid="4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6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b7a5"/>
                </a:solidFill>
                <a:latin typeface="Times New Roman"/>
              </a:rPr>
              <a:t>fast-paced</a:t>
            </a:r>
            <a:endParaRPr b="0" lang="en-US" sz="60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Times New Roman"/>
              </a:rPr>
              <a:t>Happening very quickly.</a:t>
            </a:r>
            <a:endParaRPr b="0" lang="en-US" sz="45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49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8077320" y="6094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450" name="" descr=""/>
          <p:cNvPicPr/>
          <p:nvPr/>
        </p:nvPicPr>
        <p:blipFill>
          <a:blip r:embed="rId4"/>
          <a:stretch/>
        </p:blipFill>
        <p:spPr>
          <a:xfrm>
            <a:off x="1828800" y="2971800"/>
            <a:ext cx="2330280" cy="2895480"/>
          </a:xfrm>
          <a:prstGeom prst="rect">
            <a:avLst/>
          </a:prstGeom>
          <a:ln w="0">
            <a:noFill/>
          </a:ln>
        </p:spPr>
      </p:pic>
      <p:pic>
        <p:nvPicPr>
          <p:cNvPr id="451" name="" descr=""/>
          <p:cNvPicPr/>
          <p:nvPr/>
        </p:nvPicPr>
        <p:blipFill>
          <a:blip r:embed="rId5"/>
          <a:stretch/>
        </p:blipFill>
        <p:spPr>
          <a:xfrm>
            <a:off x="5181480" y="2971800"/>
            <a:ext cx="2565360" cy="23670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0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8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" dur="8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8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8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1000"/>
                            </p:stCondLst>
                            <p:childTnLst>
                              <p:par>
                                <p:cTn id="30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0" dur="59162" fill="hold"/>
                                        <p:tgtEl>
                                          <p:spTgt spid="4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49"/>
                </p:tgtEl>
              </p:cMediaNode>
            </p:audio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6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b7a5"/>
                </a:solidFill>
                <a:latin typeface="Times New Roman"/>
              </a:rPr>
              <a:t>Vocabulary Words</a:t>
            </a: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18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brave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18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collar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18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slipped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93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800"/>
                            </p:stCondLst>
                            <p:childTnLst>
                              <p:par>
                                <p:cTn id="5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6" dur="4600" fill="hold"/>
                                        <p:tgtEl>
                                          <p:spTgt spid="3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6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b7a5"/>
                </a:solidFill>
                <a:latin typeface="Times New Roman"/>
              </a:rPr>
              <a:t>brave</a:t>
            </a:r>
            <a:endParaRPr b="0" lang="en-US" sz="60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Times New Roman"/>
              </a:rPr>
              <a:t>Not afraid.</a:t>
            </a:r>
            <a:endParaRPr b="0" lang="en-US" sz="45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96" name="" descr=""/>
          <p:cNvPicPr/>
          <p:nvPr/>
        </p:nvPicPr>
        <p:blipFill>
          <a:blip r:embed="rId1"/>
          <a:stretch/>
        </p:blipFill>
        <p:spPr>
          <a:xfrm>
            <a:off x="4038480" y="2438280"/>
            <a:ext cx="3832200" cy="3643560"/>
          </a:xfrm>
          <a:prstGeom prst="rect">
            <a:avLst/>
          </a:prstGeom>
          <a:ln w="0">
            <a:noFill/>
          </a:ln>
        </p:spPr>
      </p:pic>
      <p:pic>
        <p:nvPicPr>
          <p:cNvPr id="397" name="" descr=""/>
          <p:cNvPicPr/>
          <p:nvPr/>
        </p:nvPicPr>
        <p:blipFill>
          <a:blip r:embed="rId2"/>
          <a:stretch/>
        </p:blipFill>
        <p:spPr>
          <a:xfrm>
            <a:off x="838080" y="3200400"/>
            <a:ext cx="2259000" cy="2527200"/>
          </a:xfrm>
          <a:prstGeom prst="rect">
            <a:avLst/>
          </a:prstGeom>
          <a:ln w="0">
            <a:noFill/>
          </a:ln>
        </p:spPr>
      </p:pic>
      <p:pic>
        <p:nvPicPr>
          <p:cNvPr id="398" name="" descr="">
            <a:hlinkClick r:id="" action="ppaction://media"/>
          </p:cNvPr>
          <p:cNvPicPr/>
          <p:nvPr>
            <a:audi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7924680" y="7621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62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898" fill="hold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000"/>
                            </p:stCondLst>
                            <p:childTnLst>
                              <p:par>
                                <p:cTn id="7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3" dur="20331" fill="hold"/>
                                        <p:tgtEl>
                                          <p:spTgt spid="3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398"/>
                </p:tgtEl>
              </p:cMediaNode>
            </p:audio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6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b7a5"/>
                </a:solidFill>
                <a:latin typeface="Times New Roman"/>
              </a:rPr>
              <a:t>collar</a:t>
            </a:r>
            <a:endParaRPr b="0" lang="en-US" sz="60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Times New Roman"/>
              </a:rPr>
              <a:t>A band that is put around the neck of a dog or other pet.</a:t>
            </a:r>
            <a:endParaRPr b="0" lang="en-US" sz="45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01" name="" descr=""/>
          <p:cNvPicPr/>
          <p:nvPr/>
        </p:nvPicPr>
        <p:blipFill>
          <a:blip r:embed="rId1"/>
          <a:stretch/>
        </p:blipFill>
        <p:spPr>
          <a:xfrm>
            <a:off x="2362320" y="3733920"/>
            <a:ext cx="4195800" cy="2133360"/>
          </a:xfrm>
          <a:prstGeom prst="rect">
            <a:avLst/>
          </a:prstGeom>
          <a:ln w="0">
            <a:noFill/>
          </a:ln>
        </p:spPr>
      </p:pic>
      <p:sp>
        <p:nvSpPr>
          <p:cNvPr id="402" name=""/>
          <p:cNvSpPr/>
          <p:nvPr/>
        </p:nvSpPr>
        <p:spPr>
          <a:xfrm flipH="1">
            <a:off x="6324480" y="3429000"/>
            <a:ext cx="1981440" cy="45720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3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001000" y="7621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300"/>
                            </p:stCondLst>
                            <p:childTnLst>
                              <p:par>
                                <p:cTn id="9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1" dur="3357" fill="hold"/>
                                        <p:tgtEl>
                                          <p:spTgt spid="4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03"/>
                </p:tgtEl>
              </p:cMediaNode>
            </p:audio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6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b7a5"/>
                </a:solidFill>
                <a:latin typeface="Times New Roman"/>
              </a:rPr>
              <a:t>slipped</a:t>
            </a:r>
            <a:endParaRPr b="0" lang="en-US" sz="60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Times New Roman"/>
              </a:rPr>
              <a:t>To slide suddenly and unexpectedly.</a:t>
            </a:r>
            <a:endParaRPr b="0" lang="en-US" sz="45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06" name="" descr=""/>
          <p:cNvPicPr/>
          <p:nvPr/>
        </p:nvPicPr>
        <p:blipFill>
          <a:blip r:embed="rId1"/>
          <a:stretch/>
        </p:blipFill>
        <p:spPr>
          <a:xfrm>
            <a:off x="5181480" y="3124080"/>
            <a:ext cx="2544840" cy="2678400"/>
          </a:xfrm>
          <a:prstGeom prst="rect">
            <a:avLst/>
          </a:prstGeom>
          <a:ln w="0">
            <a:noFill/>
          </a:ln>
        </p:spPr>
      </p:pic>
      <p:pic>
        <p:nvPicPr>
          <p:cNvPr id="407" name="" descr=""/>
          <p:cNvPicPr/>
          <p:nvPr/>
        </p:nvPicPr>
        <p:blipFill>
          <a:blip r:embed="rId2"/>
          <a:stretch/>
        </p:blipFill>
        <p:spPr>
          <a:xfrm>
            <a:off x="7620120" y="7621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97" dur="2000" fill="hold"/>
                                        <p:tgtEl>
                                          <p:spTgt spid="4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5" dur="4089" fill="hold"/>
                                        <p:tgtEl>
                                          <p:spTgt spid="4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6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b7a5"/>
                </a:solidFill>
                <a:latin typeface="Times New Roman"/>
              </a:rPr>
              <a:t>Amazing Words</a:t>
            </a: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37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ffffff"/>
                </a:solidFill>
                <a:latin typeface="Times New Roman"/>
              </a:rPr>
              <a:t>courageous</a:t>
            </a:r>
            <a:endParaRPr b="0" lang="en-US" sz="5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37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ffffff"/>
                </a:solidFill>
                <a:latin typeface="Times New Roman"/>
              </a:rPr>
              <a:t>hazard</a:t>
            </a:r>
            <a:endParaRPr b="0" lang="en-US" sz="5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37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ffffff"/>
                </a:solidFill>
                <a:latin typeface="Times New Roman"/>
              </a:rPr>
              <a:t>rescue</a:t>
            </a:r>
            <a:endParaRPr b="0" lang="en-US" sz="5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37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ffffff"/>
                </a:solidFill>
                <a:latin typeface="Times New Roman"/>
              </a:rPr>
              <a:t>instinct</a:t>
            </a:r>
            <a:endParaRPr b="0" lang="en-US" sz="5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37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ffffff"/>
                </a:solidFill>
                <a:latin typeface="Times New Roman"/>
              </a:rPr>
              <a:t>skittish</a:t>
            </a:r>
            <a:endParaRPr b="0" lang="en-US" sz="5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37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ffffff"/>
                </a:solidFill>
                <a:latin typeface="Times New Roman"/>
              </a:rPr>
              <a:t>blustery</a:t>
            </a:r>
            <a:endParaRPr b="0" lang="en-US" sz="5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37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ffffff"/>
                </a:solidFill>
                <a:latin typeface="Times New Roman"/>
              </a:rPr>
              <a:t>avalanche</a:t>
            </a:r>
            <a:endParaRPr b="0" lang="en-US" sz="5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37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ffffff"/>
                </a:solidFill>
                <a:latin typeface="Times New Roman"/>
              </a:rPr>
              <a:t>fast-paced</a:t>
            </a:r>
            <a:endParaRPr b="0" lang="en-US" sz="55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edge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768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3" dur="768" fill="hold"/>
                                        <p:tgtEl>
                                          <p:spTgt spid="40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5" dur="768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7" dur="768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4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4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4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4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4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4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4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4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4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6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b7a5"/>
                </a:solidFill>
                <a:latin typeface="Times New Roman"/>
              </a:rPr>
              <a:t>courageous</a:t>
            </a:r>
            <a:endParaRPr b="0" lang="en-US" sz="60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112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Times New Roman"/>
              </a:rPr>
              <a:t>Full of courage.</a:t>
            </a:r>
            <a:endParaRPr b="0" lang="en-US" sz="45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13" name="" descr=""/>
          <p:cNvPicPr/>
          <p:nvPr/>
        </p:nvPicPr>
        <p:blipFill>
          <a:blip r:embed="rId1"/>
          <a:stretch/>
        </p:blipFill>
        <p:spPr>
          <a:xfrm>
            <a:off x="5334120" y="1905120"/>
            <a:ext cx="2541600" cy="3809880"/>
          </a:xfrm>
          <a:prstGeom prst="rect">
            <a:avLst/>
          </a:prstGeom>
          <a:ln w="0">
            <a:noFill/>
          </a:ln>
        </p:spPr>
      </p:pic>
      <p:pic>
        <p:nvPicPr>
          <p:cNvPr id="414" name="" descr=""/>
          <p:cNvPicPr/>
          <p:nvPr/>
        </p:nvPicPr>
        <p:blipFill>
          <a:blip r:embed="rId2"/>
          <a:stretch/>
        </p:blipFill>
        <p:spPr>
          <a:xfrm>
            <a:off x="2057400" y="2819520"/>
            <a:ext cx="2197080" cy="2574720"/>
          </a:xfrm>
          <a:prstGeom prst="rect">
            <a:avLst/>
          </a:prstGeom>
          <a:ln w="0">
            <a:noFill/>
          </a:ln>
        </p:spPr>
      </p:pic>
      <p:pic>
        <p:nvPicPr>
          <p:cNvPr id="415" name="" descr=""/>
          <p:cNvPicPr/>
          <p:nvPr/>
        </p:nvPicPr>
        <p:blipFill>
          <a:blip r:embed="rId3"/>
          <a:stretch/>
        </p:blipFill>
        <p:spPr>
          <a:xfrm>
            <a:off x="8153280" y="838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180" dur="2000" fill="hold"/>
                                        <p:tgtEl>
                                          <p:spTgt spid="4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1000"/>
                            </p:stCondLst>
                            <p:childTnLst>
                              <p:par>
                                <p:cTn id="18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8" dur="52020" fill="hold"/>
                                        <p:tgtEl>
                                          <p:spTgt spid="4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6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b7a5"/>
                </a:solidFill>
                <a:latin typeface="Times New Roman"/>
              </a:rPr>
              <a:t>hazard</a:t>
            </a:r>
            <a:endParaRPr b="0" lang="en-US" sz="60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Times New Roman"/>
              </a:rPr>
              <a:t>something dangerous. </a:t>
            </a:r>
            <a:endParaRPr b="0" lang="en-US" sz="45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18" name="" descr=""/>
          <p:cNvPicPr/>
          <p:nvPr/>
        </p:nvPicPr>
        <p:blipFill>
          <a:blip r:embed="rId1"/>
          <a:stretch/>
        </p:blipFill>
        <p:spPr>
          <a:xfrm>
            <a:off x="3276720" y="3200400"/>
            <a:ext cx="2182680" cy="2608200"/>
          </a:xfrm>
          <a:prstGeom prst="rect">
            <a:avLst/>
          </a:prstGeom>
          <a:ln w="0">
            <a:noFill/>
          </a:ln>
        </p:spPr>
      </p:pic>
      <p:pic>
        <p:nvPicPr>
          <p:cNvPr id="419" name="" descr=""/>
          <p:cNvPicPr/>
          <p:nvPr/>
        </p:nvPicPr>
        <p:blipFill>
          <a:blip r:embed="rId2"/>
          <a:stretch/>
        </p:blipFill>
        <p:spPr>
          <a:xfrm>
            <a:off x="1219320" y="2819520"/>
            <a:ext cx="2022480" cy="1828800"/>
          </a:xfrm>
          <a:prstGeom prst="rect">
            <a:avLst/>
          </a:prstGeom>
          <a:ln w="0">
            <a:noFill/>
          </a:ln>
        </p:spPr>
      </p:pic>
      <p:pic>
        <p:nvPicPr>
          <p:cNvPr id="420" name="" descr=""/>
          <p:cNvPicPr/>
          <p:nvPr/>
        </p:nvPicPr>
        <p:blipFill>
          <a:blip r:embed="rId3"/>
          <a:stretch/>
        </p:blipFill>
        <p:spPr>
          <a:xfrm>
            <a:off x="6324480" y="3048120"/>
            <a:ext cx="1793880" cy="1693800"/>
          </a:xfrm>
          <a:prstGeom prst="rect">
            <a:avLst/>
          </a:prstGeom>
          <a:ln w="0">
            <a:noFill/>
          </a:ln>
        </p:spPr>
      </p:pic>
      <p:pic>
        <p:nvPicPr>
          <p:cNvPr id="421" name="" descr=""/>
          <p:cNvPicPr/>
          <p:nvPr/>
        </p:nvPicPr>
        <p:blipFill>
          <a:blip r:embed="rId4"/>
          <a:stretch/>
        </p:blipFill>
        <p:spPr>
          <a:xfrm>
            <a:off x="8153280" y="6094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0" dur="4523" fill="hold"/>
                                        <p:tgtEl>
                                          <p:spTgt spid="4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6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b7a5"/>
                </a:solidFill>
                <a:latin typeface="Times New Roman"/>
              </a:rPr>
              <a:t>rescue</a:t>
            </a:r>
            <a:endParaRPr b="0" lang="en-US" sz="60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Times New Roman"/>
              </a:rPr>
              <a:t>Saving someone or something from danger. </a:t>
            </a:r>
            <a:endParaRPr b="0" lang="en-US" sz="45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24" name="" descr=""/>
          <p:cNvPicPr/>
          <p:nvPr/>
        </p:nvPicPr>
        <p:blipFill>
          <a:blip r:embed="rId1"/>
          <a:stretch/>
        </p:blipFill>
        <p:spPr>
          <a:xfrm>
            <a:off x="6934320" y="3505320"/>
            <a:ext cx="1339560" cy="1427040"/>
          </a:xfrm>
          <a:prstGeom prst="rect">
            <a:avLst/>
          </a:prstGeom>
          <a:ln w="0">
            <a:noFill/>
          </a:ln>
        </p:spPr>
      </p:pic>
      <p:pic>
        <p:nvPicPr>
          <p:cNvPr id="425" name="" descr=""/>
          <p:cNvPicPr/>
          <p:nvPr/>
        </p:nvPicPr>
        <p:blipFill>
          <a:blip r:embed="rId2"/>
          <a:stretch/>
        </p:blipFill>
        <p:spPr>
          <a:xfrm>
            <a:off x="4114800" y="3352680"/>
            <a:ext cx="2197080" cy="2897280"/>
          </a:xfrm>
          <a:prstGeom prst="rect">
            <a:avLst/>
          </a:prstGeom>
          <a:ln w="0">
            <a:noFill/>
          </a:ln>
        </p:spPr>
      </p:pic>
      <p:pic>
        <p:nvPicPr>
          <p:cNvPr id="426" name="" descr=""/>
          <p:cNvPicPr/>
          <p:nvPr/>
        </p:nvPicPr>
        <p:blipFill>
          <a:blip r:embed="rId3"/>
          <a:stretch/>
        </p:blipFill>
        <p:spPr>
          <a:xfrm>
            <a:off x="1295280" y="3962520"/>
            <a:ext cx="1441440" cy="2028600"/>
          </a:xfrm>
          <a:prstGeom prst="rect">
            <a:avLst/>
          </a:prstGeom>
          <a:ln w="0">
            <a:noFill/>
          </a:ln>
        </p:spPr>
      </p:pic>
      <p:pic>
        <p:nvPicPr>
          <p:cNvPr id="427" name="" descr="">
            <a:hlinkClick r:id="" action="ppaction://media"/>
          </p:cNvPr>
          <p:cNvPicPr/>
          <p:nvPr>
            <a:audioFile r:link="rId4"/>
            <p:extLst>
              <p:ext uri="{DAA4B4D4-6D71-4841-9C94-3DE7FCFB9230}">
                <p14:media r:link="rId5"/>
              </p:ext>
            </p:extLst>
          </p:nvPr>
        </p:nvPicPr>
        <p:blipFill>
          <a:blip r:embed="rId6"/>
          <a:stretch>
            <a:fillRect/>
          </a:stretch>
        </p:blipFill>
        <p:spPr>
          <a:xfrm>
            <a:off x="7620120" y="838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2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2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2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2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2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" dur="500"/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500"/>
                            </p:stCondLst>
                            <p:childTnLst>
                              <p:par>
                                <p:cTn id="21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9" dur="6707" fill="hold"/>
                                        <p:tgtEl>
                                          <p:spTgt spid="42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27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9T16:32:32Z</dcterms:created>
  <dc:creator> </dc:creator>
  <dc:description/>
  <cp:keywords/>
  <dc:language>en-US</dc:language>
  <cp:lastModifiedBy> </cp:lastModifiedBy>
  <dcterms:modified xsi:type="dcterms:W3CDTF">2007-09-29T17:36:21Z</dcterms:modified>
  <cp:revision>2</cp:revision>
  <dc:subject/>
  <dc:title>Tara and Tiree Vocabulary and Amazing Word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690521033</vt:lpwstr>
  </property>
</Properties>
</file>